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9B879-B944-4431-B9D8-D0625E5D23A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9D4F3-52C1-4FB2-B6C5-5EA61E519F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FDB42-18C8-44C1-A400-9750764259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F641C-24AD-4A10-B5E7-3F5FC96116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50C92-34BE-4922-BEC9-0B2C363E4F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33A3A-1CDA-48FC-BDE9-1817C2513E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4B77A-F5CB-47FD-855E-B54646C234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27FA-F262-4803-BEE7-51D3D33F9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DDB7-7888-4158-88F6-3456C6989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5A7E-7CF3-4222-A0A0-607C70543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39EF-1EA9-4251-9FFC-446A9674A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80EA-4DB5-4906-BE65-C8279C2FB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CD54-F981-43E8-AE87-B3D4EFDF9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4486-05E1-4F04-AB76-8B1613BB1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B2EC-7B5B-4978-BF26-72DBA5E3E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8C70-35AA-488D-8BFF-1DEFA3552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D18A-7313-470D-BEA3-B93022D97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D0EE-D543-4AE5-A6A9-98759447B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DECF-A261-4E6B-ABCB-25D2A8305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ACD46-D2CA-4985-A16D-5B3D3994DE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юбимые сказки для детей первой младшей группы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 rot="683400">
            <a:off x="2975040" y="2253960"/>
            <a:ext cx="4468680" cy="4230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«Не золотое , а простое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2"/>
          <a:stretch/>
        </p:blipFill>
        <p:spPr>
          <a:xfrm>
            <a:off x="2000160" y="781200"/>
            <a:ext cx="4762440" cy="5816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Конец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2"/>
          <a:srcRect l="0" t="21245" r="0" b="21245"/>
          <a:stretch/>
        </p:blipFill>
        <p:spPr>
          <a:xfrm rot="850200">
            <a:off x="1992240" y="82404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371240" y="1628280"/>
            <a:ext cx="6945480" cy="3729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2000"/>
          </a:bodyPr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На тарелочке лежал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Как остыл и убежал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Встретил он зверей в лесу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На беду свою — лису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Ей попался на зубо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Круглый, вкусный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Times New Roman"/>
              </a:rPr>
              <a:t>                                     </a:t>
            </a:r>
            <a:r>
              <a:rPr b="0" lang="en-US" sz="3200" spc="-1" strike="noStrike">
                <a:solidFill>
                  <a:srgbClr val="1f497d"/>
                </a:solidFill>
                <a:latin typeface="Times New Roman"/>
              </a:rPr>
              <a:t>(Колобок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14360" y="5143680"/>
            <a:ext cx="5135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              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Колобо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428920" y="571500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Русская народная сказ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2"/>
          <a:srcRect l="0" t="20475" r="0" b="20475"/>
          <a:stretch/>
        </p:blipFill>
        <p:spPr>
          <a:xfrm rot="673200">
            <a:off x="2192400" y="488520"/>
            <a:ext cx="5486400" cy="4714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2"/>
          <a:stretch/>
        </p:blipFill>
        <p:spPr>
          <a:xfrm>
            <a:off x="4140360" y="692280"/>
            <a:ext cx="4762440" cy="547668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3"/>
          <p:cNvSpPr/>
          <p:nvPr/>
        </p:nvSpPr>
        <p:spPr>
          <a:xfrm>
            <a:off x="0" y="260280"/>
            <a:ext cx="4572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Жили-были старик со старухо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от и говорит старик старух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ди-ка, старуха, по коробу поскреби, по сусеку помети, не наскребешь ли муки на колобо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зяла старуха крылышко, по коробу поскребла, по сусеку помела и наскребла муки горсти дв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2"/>
          <a:stretch/>
        </p:blipFill>
        <p:spPr>
          <a:xfrm>
            <a:off x="4071960" y="1143000"/>
            <a:ext cx="4762440" cy="542916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3"/>
          <p:cNvSpPr/>
          <p:nvPr/>
        </p:nvSpPr>
        <p:spPr>
          <a:xfrm>
            <a:off x="0" y="214200"/>
            <a:ext cx="4572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Замесила муку на сметане, состряпала колобок, изжарила в масле и на окошко студить положи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2"/>
          <a:stretch/>
        </p:blipFill>
        <p:spPr>
          <a:xfrm>
            <a:off x="3714840" y="285840"/>
            <a:ext cx="4762440" cy="612432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2"/>
          <p:cNvSpPr/>
          <p:nvPr/>
        </p:nvSpPr>
        <p:spPr>
          <a:xfrm>
            <a:off x="0" y="214200"/>
            <a:ext cx="4572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лобок полежал, полежал, взял да и покатился — с окна на лавку, с лавки на пол, пó полу к двери, прыг через порог — да в сени, из сеней на крыльцо, с крыльца на двор, со двора за ворота, дальше и дальш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4071960" y="214200"/>
            <a:ext cx="4762440" cy="59436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"/>
          <p:cNvSpPr/>
          <p:nvPr/>
        </p:nvSpPr>
        <p:spPr>
          <a:xfrm>
            <a:off x="0" y="661680"/>
            <a:ext cx="88581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ится Колобок по дороге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стречу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му Заяц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обок, Колобок, я тебя съем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ешь меня, Заяц, я тебе песенку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ю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Колобок, Колобок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о коробу скребен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усеку метен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метане мешо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в масле пряжон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кошке стужо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от дедушки ушел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от бабушки ушел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тебя, зайца, подавно уйду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окатился по дороге — только Заяц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о и видел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4000680" y="500040"/>
            <a:ext cx="4762440" cy="604836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1"/>
          <p:cNvSpPr/>
          <p:nvPr/>
        </p:nvSpPr>
        <p:spPr>
          <a:xfrm>
            <a:off x="0" y="258480"/>
            <a:ext cx="45385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И покатился по дороге — только Заяц его и видел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Катится Колобок, навстречу ему Волк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лобок, Колобок, я тебя съем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Не ешь меня, Серый Волк, я теб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песенку спою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Я Колобок, Колобок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Я по коробу скребен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 сусеку метен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 сметане мешо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Да в масле пряжон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 окошке стужо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Я от дедушки ушел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Я от бабушки ушел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Я от зайца ушел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От тебя, волк, подавно уйду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И покатился по дороге — только Вол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его и видел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4000680" y="428760"/>
            <a:ext cx="4762440" cy="61243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"/>
          <p:cNvSpPr/>
          <p:nvPr/>
        </p:nvSpPr>
        <p:spPr>
          <a:xfrm>
            <a:off x="179280" y="470160"/>
            <a:ext cx="56959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Катится Колобок, навстречу ему Медведь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лобок, Колобок, я тебя съем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Где тебе, косолапому, съесть меня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Я Колобок, Колобок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Я по коробу скребен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 сусеку метен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 сметане мешо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Да в масле пряжон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 окошке стужо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Я от дедушки ушел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Я от бабушки ушел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Я от зайца ушел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Я от волка ушел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От тебя, медведь, подавно уйду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И опять покатился — только Медведь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его и видел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600" y="213840"/>
            <a:ext cx="2251080" cy="62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2c02"/>
                </a:solidFill>
                <a:latin typeface="Times New Roman"/>
              </a:rPr>
              <a:t>Содержан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300816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Курочка Ряб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Колобо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Реп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3749760" y="461880"/>
            <a:ext cx="4762440" cy="5477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2"/>
          <a:stretch/>
        </p:blipFill>
        <p:spPr>
          <a:xfrm>
            <a:off x="4143240" y="428760"/>
            <a:ext cx="4762800" cy="60004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"/>
          <p:cNvSpPr/>
          <p:nvPr/>
        </p:nvSpPr>
        <p:spPr>
          <a:xfrm>
            <a:off x="-6120" y="402840"/>
            <a:ext cx="45666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Катится Колобок, навстречу ему Лис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лобок, Колобок, куда катишься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Качусь по дорожк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лобок, Колобок, спой мне песенку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лобок и запел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Я Колобок, Колобок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Я по коробу скребен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 сусеку метен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 сметане мешо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Да в масле пряжон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 окошке стужо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Я от дедушки ушел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Я от бабушки ушел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Я от зайца ушел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Я от волка ушел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От медведя ушел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От тебя, лисы, нехитро уйти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2"/>
          <a:stretch/>
        </p:blipFill>
        <p:spPr>
          <a:xfrm>
            <a:off x="4381560" y="357120"/>
            <a:ext cx="4762440" cy="619128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2"/>
          <p:cNvSpPr/>
          <p:nvPr/>
        </p:nvSpPr>
        <p:spPr>
          <a:xfrm>
            <a:off x="214200" y="428760"/>
            <a:ext cx="4572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 Лиса говорит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х, песенка хороша, да слышу я плохо. Колобок, Колобок, сядь ко мне на носок да спой еще разок, погромч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лобок вскочил Лисе на нос и запел погромче ту же песен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 Лиса опять ему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лобок, Колобок, сядь ко мне на язычок да пропой в последний разо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лобок прыг Лисе на язык, а Лиса его — гам! — и съел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857760" y="5500440"/>
            <a:ext cx="548640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Конец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2"/>
          <a:srcRect l="0" t="17108" r="0" b="17108"/>
          <a:stretch/>
        </p:blipFill>
        <p:spPr>
          <a:xfrm rot="758400">
            <a:off x="1792080" y="61236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371600" y="31428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54000"/>
          </a:bodyPr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Times New Roman"/>
              </a:rPr>
              <a:t>Что за сказка: кошка, внучка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Times New Roman"/>
              </a:rPr>
              <a:t>Мышь, ещё собака Жуч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Times New Roman"/>
              </a:rPr>
              <a:t>Деду с бабой помогали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Times New Roman"/>
              </a:rPr>
              <a:t>Корнеплоды собирали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  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Реп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Русская народная сказ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2"/>
          <a:srcRect l="0" t="20931" r="0" b="20931"/>
          <a:stretch/>
        </p:blipFill>
        <p:spPr>
          <a:xfrm rot="765000">
            <a:off x="1792080" y="61236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2"/>
          <a:stretch/>
        </p:blipFill>
        <p:spPr>
          <a:xfrm>
            <a:off x="0" y="260280"/>
            <a:ext cx="6227640" cy="619308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2"/>
          <p:cNvSpPr/>
          <p:nvPr/>
        </p:nvSpPr>
        <p:spPr>
          <a:xfrm>
            <a:off x="5940360" y="404640"/>
            <a:ext cx="32036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садил дед репку и говорит: «Расти, расти, репка, сладкá!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ти, расти, репка, крепкá!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росла репка сладкá, крепкá, большая-пребольша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2"/>
          <a:stretch/>
        </p:blipFill>
        <p:spPr>
          <a:xfrm>
            <a:off x="250920" y="404640"/>
            <a:ext cx="5400720" cy="619308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2"/>
          <p:cNvSpPr/>
          <p:nvPr/>
        </p:nvSpPr>
        <p:spPr>
          <a:xfrm>
            <a:off x="5724360" y="357120"/>
            <a:ext cx="3276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шел дед репку рвать: тянет-потянет,                       вытянуть не мож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2"/>
          <a:stretch/>
        </p:blipFill>
        <p:spPr>
          <a:xfrm>
            <a:off x="285840" y="428760"/>
            <a:ext cx="5149800" cy="609588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1"/>
          <p:cNvSpPr/>
          <p:nvPr/>
        </p:nvSpPr>
        <p:spPr>
          <a:xfrm>
            <a:off x="5364000" y="1198440"/>
            <a:ext cx="3600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вал дед бабк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бка за дедку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дка за репку —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янут-потянут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тянуть не могу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2"/>
          <a:stretch/>
        </p:blipFill>
        <p:spPr>
          <a:xfrm>
            <a:off x="285840" y="428760"/>
            <a:ext cx="4933800" cy="60865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"/>
          <p:cNvSpPr/>
          <p:nvPr/>
        </p:nvSpPr>
        <p:spPr>
          <a:xfrm>
            <a:off x="5222880" y="692640"/>
            <a:ext cx="3580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звала бабка внучк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нучка за бабку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Бабка за дедку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Дедка за репку —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Тянут-потянут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ытянуть не могут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2"/>
          <a:stretch/>
        </p:blipFill>
        <p:spPr>
          <a:xfrm>
            <a:off x="214200" y="500040"/>
            <a:ext cx="4762440" cy="608652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1"/>
          <p:cNvSpPr/>
          <p:nvPr/>
        </p:nvSpPr>
        <p:spPr>
          <a:xfrm>
            <a:off x="4890960" y="619560"/>
            <a:ext cx="42530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звала внучка Жучк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Жучка за внучку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Внучка за бабку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Бабка за дедку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Дедка за репку 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Тянут-потянут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вытянуть не могу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1280" y="549360"/>
            <a:ext cx="7921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Да не смог разбить и дед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Ведь ему сто лет в обед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Баба била — не разбил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Слабовата бабья сила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Кликнули они норушку 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Та разбила, как игрушк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И сбежала под крыльцо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Что разбила-то? 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                                      </a:t>
            </a:r>
            <a:r>
              <a:rPr b="0" lang="en-US" sz="3600" spc="-1" strike="noStrike">
                <a:solidFill>
                  <a:srgbClr val="022c02"/>
                </a:solidFill>
                <a:latin typeface="Times New Roman"/>
              </a:rPr>
              <a:t>(</a:t>
            </a:r>
            <a:r>
              <a:rPr b="0" lang="ru-RU" sz="3600" spc="-1" strike="noStrike">
                <a:solidFill>
                  <a:srgbClr val="022c02"/>
                </a:solidFill>
                <a:latin typeface="Times New Roman"/>
              </a:rPr>
              <a:t>Яйцо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2"/>
          <a:stretch/>
        </p:blipFill>
        <p:spPr>
          <a:xfrm>
            <a:off x="357120" y="285840"/>
            <a:ext cx="4762440" cy="61434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1"/>
          <p:cNvSpPr/>
          <p:nvPr/>
        </p:nvSpPr>
        <p:spPr>
          <a:xfrm>
            <a:off x="5219640" y="428760"/>
            <a:ext cx="36734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звала Жучка кошк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шка за Жучку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Жучка за внучку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Внучка за бабку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Бабка за дедку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Дедка за репку —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Тянут-потянут, вытянуть не могу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2"/>
          <p:cNvSpPr/>
          <p:nvPr/>
        </p:nvSpPr>
        <p:spPr>
          <a:xfrm>
            <a:off x="5148360" y="2995560"/>
            <a:ext cx="377964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звала кошка мышк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Мышка за кошку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шка за Жучку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Жучка за внучку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Внучка за бабку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Бабка за дедку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Дедка за репку —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Тянут-потянут —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и вытянули репку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Конец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2"/>
          <a:srcRect l="0" t="20931" r="0" b="20931"/>
          <a:stretch/>
        </p:blipFill>
        <p:spPr>
          <a:xfrm>
            <a:off x="1928880" y="64296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86040" y="4785840"/>
            <a:ext cx="5486400" cy="56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Курочка Ряб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Жили-были дед и баба. И была у них курочка Ряба . Снесла курочка яичко. Не простое , а золото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2"/>
          <a:srcRect l="0" t="21245" r="0" b="21245"/>
          <a:stretch/>
        </p:blipFill>
        <p:spPr>
          <a:xfrm>
            <a:off x="1116000" y="189000"/>
            <a:ext cx="6710400" cy="4752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9680" y="274680"/>
            <a:ext cx="81867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ед бил - бил , не разби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2"/>
          <a:stretch/>
        </p:blipFill>
        <p:spPr>
          <a:xfrm>
            <a:off x="1258920" y="1214280"/>
            <a:ext cx="6337440" cy="5254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152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Бабка била - била , не разбил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1332000" y="1052640"/>
            <a:ext cx="5976720" cy="5500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79722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ышка побежала , хвостиком махнула , яичко упало и разбилос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2"/>
          <a:stretch/>
        </p:blipFill>
        <p:spPr>
          <a:xfrm>
            <a:off x="2124000" y="1125360"/>
            <a:ext cx="4762440" cy="5577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лачет дед , плачет бабка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4788000" y="1268280"/>
            <a:ext cx="3816360" cy="48578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"/>
          <p:cNvPicPr/>
          <p:nvPr/>
        </p:nvPicPr>
        <p:blipFill>
          <a:blip r:embed="rId3"/>
          <a:stretch/>
        </p:blipFill>
        <p:spPr>
          <a:xfrm>
            <a:off x="504720" y="1268280"/>
            <a:ext cx="3691080" cy="4857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А курочка им говорит : «Не плач, дед , не плач бабка , я снесу вам другое яичко»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2"/>
          <a:stretch/>
        </p:blipFill>
        <p:spPr>
          <a:xfrm>
            <a:off x="2050920" y="1341360"/>
            <a:ext cx="4762800" cy="5143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1T15:50:40Z</dcterms:created>
  <dc:creator>Друг</dc:creator>
  <dc:description/>
  <dc:language>en-US</dc:language>
  <cp:lastModifiedBy>SamLab.ws</cp:lastModifiedBy>
  <dcterms:modified xsi:type="dcterms:W3CDTF">2020-04-08T07:55:25Z</dcterms:modified>
  <cp:revision>33</cp:revision>
  <dc:subject/>
  <dc:title>Любимые сказки</dc:title>
</cp:coreProperties>
</file>